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C72-412B-4900-B4D6-DFF9A6E6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1C9-B5E9-4F94-BF32-39CE1C1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AEE-DF98-4EC4-B2AB-F37F8538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48D-A8A2-48EC-8DF5-BBB0C112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0CB-36C4-4313-B577-420A0CA4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50BF-8166-4417-8179-88F321AF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483B-DF48-470B-8C7D-105ECB3B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D8C4-3854-4F48-92B7-05750654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04C5-7C46-4872-8A17-F186B600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DB1C-0ECC-449A-B0AB-74C6CCE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A1B2-CE99-4081-B97F-1A204EF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B74-D42F-4CC3-A605-83C902F9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A7EA-856C-4F9C-A183-D6F6C2DD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66D0-1DB4-459B-A33D-1CD35C03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DDD9-264D-4636-BC81-F854B38E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4DF3-1B54-481F-8686-15B07EDE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985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9928-7842-460C-9A1A-4AF053C1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F97-07AA-464D-8F86-13FA7C3C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4CE-726E-4089-B3EB-F9F9590C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769-548B-435E-AF3C-D64B1E81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1760" y="502920"/>
            <a:ext cx="7848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CEC-6D9A-49F8-9D6B-475837F2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7EE-FA50-4350-9198-FE443331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985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9BA-C602-4479-B2A1-B1020C3E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BA0-8877-4D6D-AF81-452DE7B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sp>
          <p:nvSpPr>
            <p:cNvPr id="1" name="Rectangle 8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88"/>
            <p:cNvSpPr/>
            <p:nvPr/>
          </p:nvSpPr>
          <p:spPr>
            <a:xfrm>
              <a:off x="6705720" y="6400800"/>
              <a:ext cx="2438280" cy="228600"/>
            </a:xfrm>
            <a:custGeom>
              <a:avLst/>
              <a:gdLst/>
              <a:ahLst/>
              <a:rect l="l" t="t" r="r" b="b"/>
              <a:pathLst>
                <a:path w="1536" h="144">
                  <a:moveTo>
                    <a:pt x="0" y="96"/>
                  </a:moveTo>
                  <a:lnTo>
                    <a:pt x="144" y="0"/>
                  </a:lnTo>
                  <a:lnTo>
                    <a:pt x="1536" y="0"/>
                  </a:lnTo>
                  <a:lnTo>
                    <a:pt x="1536" y="144"/>
                  </a:lnTo>
                  <a:lnTo>
                    <a:pt x="0" y="14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" name="Object 85"/>
          <p:cNvGraphicFramePr/>
          <p:nvPr/>
        </p:nvGraphicFramePr>
        <p:xfrm>
          <a:off x="0" y="22860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FD33-B8E4-487D-B24B-F7F9D6F0A2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7"/>
          <p:cNvGrpSpPr/>
          <p:nvPr/>
        </p:nvGrpSpPr>
        <p:grpSpPr>
          <a:xfrm>
            <a:off x="0" y="6245280"/>
            <a:ext cx="9144000" cy="612720"/>
            <a:chOff x="0" y="6245280"/>
            <a:chExt cx="9144000" cy="612720"/>
          </a:xfrm>
        </p:grpSpPr>
        <p:sp>
          <p:nvSpPr>
            <p:cNvPr id="47" name="Rectangle 55"/>
            <p:cNvSpPr/>
            <p:nvPr/>
          </p:nvSpPr>
          <p:spPr>
            <a:xfrm>
              <a:off x="0" y="6451560"/>
              <a:ext cx="9144000" cy="406440"/>
            </a:xfrm>
            <a:prstGeom prst="rect">
              <a:avLst/>
            </a:pr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6"/>
            <p:cNvSpPr/>
            <p:nvPr/>
          </p:nvSpPr>
          <p:spPr>
            <a:xfrm>
              <a:off x="7024680" y="6245280"/>
              <a:ext cx="2119320" cy="307800"/>
            </a:xfrm>
            <a:custGeom>
              <a:avLst/>
              <a:gdLst/>
              <a:ahLst/>
              <a:rect l="l" t="t" r="r" b="b"/>
              <a:pathLst>
                <a:path w="1335" h="194">
                  <a:moveTo>
                    <a:pt x="0" y="137"/>
                  </a:moveTo>
                  <a:lnTo>
                    <a:pt x="229" y="0"/>
                  </a:lnTo>
                  <a:lnTo>
                    <a:pt x="1335" y="2"/>
                  </a:lnTo>
                  <a:lnTo>
                    <a:pt x="1335" y="194"/>
                  </a:lnTo>
                  <a:lnTo>
                    <a:pt x="87" y="194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1d1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4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87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3"/>
          <p:cNvSpPr/>
          <p:nvPr/>
        </p:nvSpPr>
        <p:spPr>
          <a:xfrm>
            <a:off x="1676520" y="1905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90A1-335B-4E22-8293-AA19818281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952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56383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769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0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3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3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78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150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99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1d1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9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2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5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48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1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4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57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1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6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0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06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09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0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3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16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2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27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28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1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39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4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5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48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1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57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2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3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66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69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5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AutoShape 88"/>
          <p:cNvCxnSpPr>
            <a:stCxn id="487" idx="3"/>
            <a:endCxn id="488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AutoShape 89"/>
          <p:cNvCxnSpPr>
            <a:stCxn id="488" idx="3"/>
            <a:endCxn id="489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AutoShape 90"/>
          <p:cNvCxnSpPr>
            <a:stCxn id="489" idx="3"/>
            <a:endCxn id="490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496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08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0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16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2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909720" y="2030400"/>
          <a:ext cx="7396200" cy="345276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1f6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781680" y="6477120"/>
            <a:ext cx="21114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355920" y="1871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55920" y="27860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355920" y="367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355920" y="4592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3"/>
          <p:cNvSpPr txBox="1"/>
          <p:nvPr/>
        </p:nvSpPr>
        <p:spPr>
          <a:xfrm>
            <a:off x="2057400" y="495288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1f6f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1f6f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2133720" y="5715000"/>
            <a:ext cx="5105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880" y="1601280"/>
            <a:ext cx="7470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1d1f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1f6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d1f6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6781680" y="6477120"/>
            <a:ext cx="20383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36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55818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781680" y="6477120"/>
            <a:ext cx="2111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30120" y="1393920"/>
            <a:ext cx="8294760" cy="5187960"/>
            <a:chOff x="330120" y="1393920"/>
            <a:chExt cx="8294760" cy="5187960"/>
          </a:xfrm>
        </p:grpSpPr>
        <p:sp>
          <p:nvSpPr>
            <p:cNvPr id="148" name="Freeform 4"/>
            <p:cNvSpPr/>
            <p:nvPr/>
          </p:nvSpPr>
          <p:spPr>
            <a:xfrm rot="20241600">
              <a:off x="10425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"/>
            <p:cNvSpPr/>
            <p:nvPr/>
          </p:nvSpPr>
          <p:spPr>
            <a:xfrm rot="20056200">
              <a:off x="44697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"/>
            <p:cNvSpPr/>
            <p:nvPr/>
          </p:nvSpPr>
          <p:spPr>
            <a:xfrm rot="20056200">
              <a:off x="74019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"/>
            <p:cNvSpPr/>
            <p:nvPr/>
          </p:nvSpPr>
          <p:spPr>
            <a:xfrm rot="20056200">
              <a:off x="28306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8"/>
            <p:cNvSpPr/>
            <p:nvPr/>
          </p:nvSpPr>
          <p:spPr>
            <a:xfrm rot="20056200">
              <a:off x="56775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9"/>
            <p:cNvSpPr/>
            <p:nvPr/>
          </p:nvSpPr>
          <p:spPr>
            <a:xfrm rot="20056200">
              <a:off x="18820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37926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12621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2"/>
            <p:cNvSpPr/>
            <p:nvPr/>
          </p:nvSpPr>
          <p:spPr>
            <a:xfrm>
              <a:off x="21502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3"/>
            <p:cNvSpPr/>
            <p:nvPr/>
          </p:nvSpPr>
          <p:spPr>
            <a:xfrm>
              <a:off x="49446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67842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15267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1338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70884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52858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4447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33487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24127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22"/>
            <p:cNvCxnSpPr/>
            <p:nvPr/>
          </p:nvCxnSpPr>
          <p:spPr>
            <a:xfrm flipH="1">
              <a:off x="4708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Text Box 23"/>
            <p:cNvSpPr/>
            <p:nvPr/>
          </p:nvSpPr>
          <p:spPr>
            <a:xfrm>
              <a:off x="3301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0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1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0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1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d1f6f"/>
                  </a:gs>
                  <a:gs pos="100000">
                    <a:srgbClr val="a6a7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6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5029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9692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cfdfe"/>
              </a:gs>
              <a:gs pos="100000">
                <a:srgbClr val="99bc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58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858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858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2:27Z</dcterms:created>
  <dc:creator>Admin</dc:creator>
  <dc:description/>
  <dc:language>en-US</dc:language>
  <cp:lastModifiedBy>Anh Hung Pro</cp:lastModifiedBy>
  <dcterms:modified xsi:type="dcterms:W3CDTF">2016-09-06T16:38:18Z</dcterms:modified>
  <cp:revision>2</cp:revision>
  <dc:subject/>
  <dc:title>PowerPoint Template</dc:title>
</cp:coreProperties>
</file>